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43713" cy="9263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A47F-3857-491F-8F7E-52A34F88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11C0-C1DC-47EE-B966-44A8EFB6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23C7-2434-49C8-85EC-1267A35A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C975-720B-40CC-829E-3E769D91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4D80-0B57-473F-A222-2DF0C612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1E36-07B6-4ECB-A43E-B39277CE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70FD-8D23-44D2-87B2-C50D0F12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34AE-0C30-484F-91BD-B2208F5D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6014-5B56-490C-8D50-90CC5BBB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0D4E-B707-403F-9C51-FE889048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D79A-5A78-4F17-975D-CB4EC9C4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491D-F999-4472-8894-9A297A5D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055E-54AB-432A-86DE-B3C65620D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438280" y="5335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rlington Township High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1828800"/>
            <a:ext cx="73152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idd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xcellence By Desig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ulty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ber 16,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71680" y="1066680"/>
          <a:ext cx="8001000" cy="5338800"/>
        </p:xfrm>
        <a:graphic>
          <a:graphicData uri="http://schemas.openxmlformats.org/drawingml/2006/table">
            <a:tbl>
              <a:tblPr/>
              <a:tblGrid>
                <a:gridCol w="2000160"/>
                <a:gridCol w="2000160"/>
                <a:gridCol w="2000160"/>
                <a:gridCol w="2000520"/>
              </a:tblGrid>
              <a:tr h="6426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6, 100% of all students will achieve proficiency on the State exit examination in Mathema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ment Instru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Year Benchmar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une 201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Year Benchmar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une 201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Year Benchmark (June 2016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JAS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roficient by Test Standard = 2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4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.7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8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.2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7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.9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4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.1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-Test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roficient by Test Standard = 32; Proficient by BTHS Standard = 3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1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1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.4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.2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-Test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roficient by Test Standard = 2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.5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6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.3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3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S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roficient by Test Standard = 2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3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1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.4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5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.1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5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2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685800" y="45720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71640" indent="-9716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Students will achieve proficiency in Mathematics according to the benchmarks outlined in the chart below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95360" y="2104920"/>
            <a:ext cx="81532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 the year 2016, all students at Burlington Township High School will demonstrate increased academic proficiency in Language Arts Literacy as measur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 of all students will achieve proficiency on the State exit examination in Language Arts Litera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53352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 for Accred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Plan for Goal #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-8686800" y="20574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360" y="1676520"/>
            <a:ext cx="815328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hort 1:  2009 NJASK 8 = 91.5% of the student in the Class of 2013 demonstrated proficiency in L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 Grou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Education = 42.3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American = 77.7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ally Disadvantaged = 73.1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-8686800" y="20574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360" y="1676520"/>
            <a:ext cx="815328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hort 2:  2009 S-Test 9 = 83.3% of the student in the Class of 2012 demonstrated proficiency in L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 Grou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Education = 35.1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American = 80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ally Disadvantaged = 74.6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-8686800" y="20574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360" y="1676520"/>
            <a:ext cx="815328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hort 3:  2009 S-Test 10 = 85% of the student in the Class of 2011 demonstrated proficiency in L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 Grou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Education = 40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American = 79.2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ally Disadvantaged = 67.9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-8686800" y="20574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360" y="1676520"/>
            <a:ext cx="815328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hort 4:  2009 HSPA = 92.4% of the students in the Class of 2010 demonstrated proficiency in L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 Grou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Education = 36.1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American = 79.7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ally Disadvantaged = 70.6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33520" y="914400"/>
          <a:ext cx="8076960" cy="5562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9240"/>
                <a:gridCol w="2019240"/>
              </a:tblGrid>
              <a:tr h="6876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6, 100% of all students will achieve proficiency on the State exit examination in Language 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ment Instru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Year Benchmark (June 201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Year Benchmar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une 201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Year Benchmar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une 2016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JASK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roficient by Test Standard = 2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.3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5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1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1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1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7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5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1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-Test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roficient by Test Standard = 32; Proficient by BTHS Standard = 3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.9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7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7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1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.5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.3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.4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6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-Test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roficient by Test Standard = 28; Proficient by BTHS Standard = 3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1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.6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 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3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S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roficient by Test Standard = 2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4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5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4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5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.7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.3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2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Total Popul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African Americ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(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533520" y="380880"/>
            <a:ext cx="807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71640" indent="-9716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ive:  Students will achieve proficiency in LAL according to the benchmarks outlined in the chart below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04640" indent="38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38916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38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38916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38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7200" y="16765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velop and implement a technology plan for the 21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entury that best prepares our students for their post-secondary go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53352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 for Accred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Plan for Goal #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2971800"/>
            <a:ext cx="792504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4640" indent="-347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2016, 100% of the instructional classrooms on the high scho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mpus will be equipped with a LCD projector and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347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 2016, the high school campus will be a wireless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347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 2016, all instructional staff will be rated advanced proficient in their knowledge and use of instructional technolog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-8686800" y="20574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360" y="1676520"/>
            <a:ext cx="81532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2009 – 2010, 38% of the instructional classrooms (total = 84) on the high school campus  are equipped with a LCD projector and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2009 – 2010, zero percent of the high school campus is wir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2009 – 2010, the instructional staff participated in a survey that rated their knowledge and use of instructional technologies on a continuum of “No Knowledge” to “Advanced Proficient.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95360" y="685800"/>
          <a:ext cx="8153280" cy="579600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734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 By 2016, 100% of the instructional classroom on the high school campus will be equipped with a LCD projector and scree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surement Instrument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Year Benchmar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June 2012)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Year Benchmar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June 2014)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Year Benchmar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June 2016)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 of Classroom Equipped with a LCD Projector and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tal = 32 of 84 room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% of Classroom Equipped with a LCD Projector and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 of Classrooms Equipped with a LCD Projector and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of Classrooms Equipped with a LCD Projector and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 By 2016, the high school campus will be a wireless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surement Instrument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Year Benchmar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June 201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Year Benchmar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June 201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Year Benchmar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June 2016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 of high school campus that is wir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 will be wir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% will be wir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will be wirel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 By 2016, all instructional staff will be rated advanced proficient in their knowledge and use of instructional technolo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surement Instrument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Year Benchmar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June 201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Year Benchmar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June 201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Year Benchmar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June 2016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of Instructional Staff Rating Knowledge and Use of Instructional Technolog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staff will be ranked in the “No Knowledge” or “Occasional” categ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staff will be ranked at a minimum of “Often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staff will be rated at the ranking of “Always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533520" y="3808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62120" y="1752480"/>
            <a:ext cx="2209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33440" y="2543040"/>
            <a:ext cx="6477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dentifying Priorities with Three to Five Measurable Go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53352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s Completed by the HS Administrative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3886200"/>
            <a:ext cx="2209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86080" y="4724280"/>
            <a:ext cx="61722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veloping an Action Pl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ointing Implementation Tea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-8686800" y="20574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360" y="2421000"/>
            <a:ext cx="8153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66960" indent="-5097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ddle State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B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creditation Visit:  October 19 - 22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5097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 and Greet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B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isitation Team:  October 19 at 2:10 – BTHS Cafe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ENG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etency of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ff Recog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gial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fety &amp;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ailability of curriculum gu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duation requirements across content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web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ition team and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ies allocated appropriate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keholders have input into financial mat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16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 and State-recognized theater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involvement in selected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ety of programs off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ive governance and lead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en Pep and other mentoring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r Acceptable Use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iodic Upgrades of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ledgeable Tech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udent Computers in Classro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cation between staff, parents &amp; admini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les/Duties of staff not 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l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on planning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tical articulation to increase student achie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state and federal fu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ck of available storage for athle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erature reg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Tech staf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 many old compu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facilities for video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16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udent performance levels in academic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udent and staff recog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D for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h Plan not adequate for pace of technological adv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ed participation in the strategic planning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ck of respect by stu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ed meeting time for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Cam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ff training on managing volatile sit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495360" y="210492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 the year 2016, all students at Burlington Township High School will demonstrate increased academic proficiency in Mathematics as measur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 of all students will achieve proficiency on the State exit examination in Mathema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53352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 for Accred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Plan for Goal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-8686800" y="20574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360" y="1676520"/>
            <a:ext cx="81532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hort 1:  2009 NJASK 8 = 75.1% of the students in the Class of 2013 demonstrated proficiency in mathema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 Grou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Education = 27.5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American = 62.2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ally Disadvantaged = 52.3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-8686800" y="20574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360" y="1676520"/>
            <a:ext cx="81532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hort 2:  2009 S-Test 9 = 67% of the students in the Class of 2012 demonstrated proficiency in mathema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 Grou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Education = 16.2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American = 55.2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ally Disadvantaged = 52.6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5360" y="1676520"/>
            <a:ext cx="81532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hort 3:  2009 S-Test 10 = 64.7% of the students in the Class of 2011 demonstrated proficiency in mathema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 Grou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Education = 22.9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American = 54.9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ally Disadvantaged = 49.1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46040" y="380880"/>
          <a:ext cx="1600200" cy="10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0880"/>
                    <a:ext cx="160020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429000" y="533520"/>
            <a:ext cx="4876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Data for Goal #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360" y="1676520"/>
            <a:ext cx="81532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hort 4:  2009 HSPA = 79.5% of the students in the Class of 2010 demonstrated proficiency in Mathema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 Grou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Education = 41.7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American = 67.7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cally Disadvantaged = 61.8% demonstrated pro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22:31:10Z</dcterms:created>
  <dc:creator>Nina Franco</dc:creator>
  <dc:description/>
  <dc:language>en-US</dc:language>
  <cp:lastModifiedBy>nfranco</cp:lastModifiedBy>
  <dcterms:modified xsi:type="dcterms:W3CDTF">2009-10-16T15:42:37Z</dcterms:modified>
  <cp:revision>105</cp:revision>
  <dc:subject/>
  <dc:title>Accelerated Reader + Instructional Council Members= Reading Success For All!</dc:title>
</cp:coreProperties>
</file>